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FDF-A101-49D8-98AF-443B6521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CE3-99AE-46E9-8266-DF01278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238-86FA-4184-8882-C518D97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B7F-A825-495A-AC5B-CD4D260E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AAF-EFC6-4D19-9078-A22FAFDA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1CF-20B1-4D82-8053-F11112F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E3D-7941-45AD-ACC1-F67AF309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321B-0F4E-4640-B0D5-B7EAE32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290B-7B51-4B5F-B377-411F644A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2FC-E299-435D-9C4A-D69FAB0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DA93-DD05-4EB1-B577-79E323C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6D9-DE27-40CC-BA6A-C6D3100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709-F16A-4137-BB63-2ADA6E8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73C0-A023-4A39-AC9A-BF59394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9BB-655D-4FA9-821C-22A071B7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EE50-C650-4FB9-A9DF-1B0BA637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E33-3940-44FD-AFFD-12681C5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EDA6-E85C-40C5-B71B-9EDA10B6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D716-2826-4D88-B42D-D3EA7F5E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1052-F2AF-4933-ABFF-640E570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56EC-38C6-483B-A92F-8BA4BCE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EE3F-90C6-48C0-A140-3F761C6E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55F-BFA7-455B-B255-666C5805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ACBD-60A2-4215-8459-330A9DC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2982-6ECB-4569-A28A-E2B76A4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53D1-360A-42FB-B9DE-495E2C2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F1E4-33A9-494F-A41E-AA2F938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F6AD-6618-4100-8B42-8012CAEC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D61B-D343-4829-8650-66CECB5C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6AB8-6EA4-438A-9662-B768449C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7B4B-AC23-449B-8F89-14FB75B8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4AEC-A5CA-44E0-9053-8BD639D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4039-E4B5-4ABA-85A1-2E9B04BE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48F-1A1A-421A-918B-9FACAEC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1F68-89F7-4EC0-B124-9719A6C0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FCB4-3CA4-4EFF-BB4D-71FC85B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CA00-A493-494F-89AA-CD57EA9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3892-7F32-4DE1-BB15-FA9CA4A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80E15-37B5-48A8-94B2-BBC109F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003B-065F-44E0-9F20-B30FF33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F129-3557-4D59-AB79-49EB75A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DB2A7-C340-47F4-AD97-D6A78A19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4848E-2F09-4AE8-8A7E-D52DD0A2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3C24-3B0E-4A04-B8CD-6DEBE222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C4-4A92-42C7-9457-47E207D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C4C4-DEED-4213-9649-138F4A4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1C8D-5244-42CB-AF88-11B0EA2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BA54-4BFB-49EB-9A89-D3E738B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98F9-08BF-419A-966C-43577F3A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2A7CB-9715-4988-AD6C-27C407F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63E3-366A-4FBD-9510-1082E58E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E24D6-C127-4BE8-B38B-6A3590A3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11BE9-E4F5-4717-A3BC-02874BC6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B1FA4-09F6-4692-A7E7-8878C0CD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D324-4926-456C-9BCD-024B1E0B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E4B-65AA-4A02-8CEF-65E1155B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71A0E-4FE6-43D6-9177-C6C06A12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AB3-5F1A-4A2F-AA71-9DBD900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1A5-A30E-48C2-A6F9-9495115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82B-A21C-4BA5-91F6-90BB3BE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B88-1E17-4759-B89C-86C3E4C6349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CD96-1122-46B0-839A-9E352E79937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6F8F-518C-48AE-BDAF-1A75FED37D8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70FB-88D1-436F-81A7-430170E588C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E9CB-5B34-4033-9683-6911AFC73CA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rebuchet MS"/>
              </a:rPr>
              <a:t>Everything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is An Argument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5" descr="abombnation"/>
          <p:cNvPicPr/>
          <p:nvPr/>
        </p:nvPicPr>
        <p:blipFill>
          <a:blip r:embed="rId2"/>
          <a:stretch/>
        </p:blipFill>
        <p:spPr>
          <a:xfrm>
            <a:off x="2286000" y="1676520"/>
            <a:ext cx="3695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not neutral reflections of re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be laden with conno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strategically omit facts, ele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employ elements that convey/affect mean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5" descr="C:\Users\Stephen\AppData\Local\Microsoft\Windows\Temporary Internet Files\Content.IE5\AVOJX62D\MPj04036780000[1].jpg"/>
          <p:cNvPicPr/>
          <p:nvPr/>
        </p:nvPicPr>
        <p:blipFill>
          <a:blip r:embed="rId2"/>
          <a:stretch/>
        </p:blipFill>
        <p:spPr>
          <a:xfrm>
            <a:off x="3809880" y="3733920"/>
            <a:ext cx="35053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8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1430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Because visual images are non-verbal, they can </a:t>
            </a:r>
            <a:r>
              <a:rPr b="1" i="1" lang="en-US" sz="2000" spc="-1" strike="noStrike">
                <a:solidFill>
                  <a:srgbClr val="b13f9a"/>
                </a:solidFill>
                <a:latin typeface="Trebuchet MS"/>
              </a:rPr>
              <a:t>say</a:t>
            </a: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 things without </a:t>
            </a:r>
            <a:r>
              <a:rPr b="1" i="1" lang="en-US" sz="2000" spc="-1" strike="noStrike">
                <a:solidFill>
                  <a:srgbClr val="b13f9a"/>
                </a:solidFill>
                <a:latin typeface="Trebuchet MS"/>
              </a:rPr>
              <a:t>saying</a:t>
            </a: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 thing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62160" y="5333760"/>
            <a:ext cx="3886200" cy="99036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3f9a"/>
                </a:solidFill>
                <a:latin typeface="Trebuchet MS"/>
              </a:rPr>
              <a:t>Images are omni-present, and are used to manipulate u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Content Placeholder 6" descr="coke.jpg"/>
          <p:cNvPicPr/>
          <p:nvPr/>
        </p:nvPicPr>
        <p:blipFill>
          <a:blip r:embed="rId2"/>
          <a:stretch/>
        </p:blipFill>
        <p:spPr>
          <a:xfrm>
            <a:off x="838080" y="2819520"/>
            <a:ext cx="2730600" cy="285732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7" descr="coke2.jpg"/>
          <p:cNvPicPr/>
          <p:nvPr/>
        </p:nvPicPr>
        <p:blipFill>
          <a:blip r:embed="rId3"/>
          <a:stretch/>
        </p:blipFill>
        <p:spPr>
          <a:xfrm>
            <a:off x="4876920" y="1676520"/>
            <a:ext cx="2260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599840"/>
            <a:ext cx="352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 of information does this image conve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intend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ttracts the viewer’s ey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is it compos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colors are used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style of desig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o is the intende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udienc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Content Placeholder 7" descr="Photo1.png"/>
          <p:cNvPicPr/>
          <p:nvPr/>
        </p:nvPicPr>
        <p:blipFill>
          <a:blip r:embed="rId2"/>
          <a:stretch/>
        </p:blipFill>
        <p:spPr>
          <a:xfrm>
            <a:off x="4343400" y="1752480"/>
            <a:ext cx="335268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476280" y="0"/>
            <a:ext cx="7235640" cy="1146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1599840"/>
            <a:ext cx="4800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in the foregroun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in or out of focu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is placed high/low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w are light and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or use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effect does all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have on the viewe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details ar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d/excluded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4" descr="the-atheist-e"/>
          <p:cNvPicPr/>
          <p:nvPr/>
        </p:nvPicPr>
        <p:blipFill>
          <a:blip r:embed="rId2"/>
          <a:stretch/>
        </p:blipFill>
        <p:spPr>
          <a:xfrm>
            <a:off x="4800600" y="1523880"/>
            <a:ext cx="29718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146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 the visuals evoke positive or negative scenes or allusion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motions does this visual evok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motions are intended to be evok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values or ideas are suggest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es the image reinforce or question those ideas or value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Content Placeholder 6" descr="ad.bmp"/>
          <p:cNvPicPr/>
          <p:nvPr/>
        </p:nvPicPr>
        <p:blipFill>
          <a:blip r:embed="rId2"/>
          <a:stretch/>
        </p:blipFill>
        <p:spPr>
          <a:xfrm>
            <a:off x="4213080" y="1459080"/>
            <a:ext cx="36356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28240" y="13712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nything in the picture exaggerated, idealized, repeated, or intensifi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 anything confusing or ambiguous?  Is this intend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is the purpose of the accompanying script?  Does it clarify, reinforce, contradict, or blur the image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Content Placeholder 6" descr="ad.bmp"/>
          <p:cNvPicPr/>
          <p:nvPr/>
        </p:nvPicPr>
        <p:blipFill>
          <a:blip r:embed="rId2"/>
          <a:stretch/>
        </p:blipFill>
        <p:spPr>
          <a:xfrm>
            <a:off x="1676520" y="3276720"/>
            <a:ext cx="462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egetarian--CSI"/>
          <p:cNvPicPr/>
          <p:nvPr/>
        </p:nvPicPr>
        <p:blipFill>
          <a:blip r:embed="rId1"/>
          <a:stretch/>
        </p:blipFill>
        <p:spPr>
          <a:xfrm>
            <a:off x="2371680" y="571680"/>
            <a:ext cx="44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242120" cy="12128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=Overview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alyze the whole imag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=Part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nalyze the parts of the imag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=Text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nalyze any written tex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=Interrelationship of whol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analyze how the whole, parts, and text work togeth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=Conclusion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make a conclusion about the intended argument, purpose, and audienc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15:33:31Z</dcterms:created>
  <dc:creator>Carrie Danielson</dc:creator>
  <dc:description/>
  <dc:language>en-US</dc:language>
  <cp:lastModifiedBy>Michelle Clark-Cadwell</cp:lastModifiedBy>
  <dcterms:modified xsi:type="dcterms:W3CDTF">2016-10-04T21:33:36Z</dcterms:modified>
  <cp:revision>67</cp:revision>
  <dc:subject/>
  <dc:title>Visual Argument</dc:title>
</cp:coreProperties>
</file>